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F3A8-E64A-4F80-9F5E-3B4F0D51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799-8775-4DDC-ACDF-DD7DA750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3CC-3C52-43C1-B15D-8D064BA9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1EE-071A-445C-A5A0-2BC10FD0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49A0-20D5-4AEE-BBB4-05C6FEAD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A808-61E6-43F1-AF25-B6EA340F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A698-9262-41B4-AE18-CDDC3E6B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9B0C-C056-4CA4-B6D4-514D05C7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D776-4DDA-412D-A8D8-9CF495ED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541B-9A6E-4501-839C-5404F978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5B9B-3787-433B-99D2-28B5D465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007-3C6E-4BE4-9D80-61882810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AB20-F732-4E9F-AE53-D74A8567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8982-2890-4F50-946E-62EEB6FC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CEDB-29AE-49F9-A254-DCED7245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1771-A22A-4D2A-91AF-2E42279E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08AB-DA92-4BDA-AB6F-B88AE704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0BB-09A7-47F4-AD19-0278F884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759E-F1C8-4A2A-B9CD-91EBD52A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A10-DCAD-4A1D-8780-1C6C5BE0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C54-4A85-4A02-A7C5-F68F9B66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BD72-0BE3-4F5F-997B-EC86FAC3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D356-274A-4F29-8D48-F1DEFAD6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C3C2-F58C-4057-A031-75BB74AC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7888-C157-47CA-AB86-5D964228E35B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0111-66B4-4703-AE3E-387E2D48F607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0000"/>
                </a:solidFill>
                <a:latin typeface="Arial"/>
              </a:rPr>
              <a:t>Auxiliar Nº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000000"/>
                </a:solidFill>
                <a:latin typeface="Arial"/>
              </a:rPr>
              <a:t>Estructuras de Mercad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ferta y Demand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4038480"/>
            <a:ext cx="70106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ferta: representa la cantidad total que los oferentes están dispuesto a producir a cierto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manda: representa la cantidad total que los demandantes están dispuestos a comprar a cierto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03280" y="1640520"/>
            <a:ext cx="3239640" cy="2249640"/>
            <a:chOff x="1403280" y="1640520"/>
            <a:chExt cx="3239640" cy="2249640"/>
          </a:xfrm>
        </p:grpSpPr>
        <p:grpSp>
          <p:nvGrpSpPr>
            <p:cNvPr id="95" name=""/>
            <p:cNvGrpSpPr/>
            <p:nvPr/>
          </p:nvGrpSpPr>
          <p:grpSpPr>
            <a:xfrm>
              <a:off x="1403280" y="1640520"/>
              <a:ext cx="3239640" cy="2249640"/>
              <a:chOff x="1403280" y="1640520"/>
              <a:chExt cx="3239640" cy="2249640"/>
            </a:xfrm>
          </p:grpSpPr>
          <p:sp>
            <p:nvSpPr>
              <p:cNvPr id="96" name=""/>
              <p:cNvSpPr/>
              <p:nvPr/>
            </p:nvSpPr>
            <p:spPr>
              <a:xfrm>
                <a:off x="4180320" y="3468600"/>
                <a:ext cx="462600" cy="42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03280" y="1640520"/>
                <a:ext cx="462600" cy="28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100320" y="3468600"/>
                <a:ext cx="308160" cy="42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57360" y="2202840"/>
                <a:ext cx="462960" cy="42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1865880" y="1640520"/>
                <a:ext cx="0" cy="182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865880" y="3468600"/>
                <a:ext cx="262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1865880" y="1921680"/>
                <a:ext cx="2005920" cy="126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865880" y="2343600"/>
                <a:ext cx="138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5400000">
                <a:off x="2138040" y="2071080"/>
                <a:ext cx="843480" cy="1388520"/>
              </a:xfrm>
              <a:prstGeom prst="rtTriangl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254760" y="2343600"/>
                <a:ext cx="0" cy="112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5003640" y="1628640"/>
            <a:ext cx="3384720" cy="2376360"/>
            <a:chOff x="5003640" y="1628640"/>
            <a:chExt cx="3384720" cy="2376360"/>
          </a:xfrm>
        </p:grpSpPr>
        <p:sp>
          <p:nvSpPr>
            <p:cNvPr id="107" name=""/>
            <p:cNvSpPr/>
            <p:nvPr/>
          </p:nvSpPr>
          <p:spPr>
            <a:xfrm>
              <a:off x="7904880" y="3559680"/>
              <a:ext cx="483480" cy="44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03640" y="1628640"/>
              <a:ext cx="48348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54080" y="3559680"/>
              <a:ext cx="322200" cy="44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64560" y="2668320"/>
              <a:ext cx="483480" cy="44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487120" y="1628640"/>
              <a:ext cx="0" cy="19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87120" y="3559680"/>
              <a:ext cx="27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5486760" y="1925640"/>
              <a:ext cx="1934280" cy="14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7120" y="2817000"/>
              <a:ext cx="112824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7120" y="1925640"/>
              <a:ext cx="1128240" cy="891360"/>
            </a:xfrm>
            <a:prstGeom prst="rtTriangl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15360" y="2817000"/>
              <a:ext cx="720" cy="742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lasticidades</a:t>
            </a:r>
            <a:br>
              <a:rPr sz="4200"/>
            </a:b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(ceteris paribu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15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asticidad de la demanda: Magnitud de la reacción de la cantidad demandada ante un cambio en el pre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asticidad de la oferta: grado de respuesta de los productores ante variaciones en el pre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ango de val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va el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va con elasticidad un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va inel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724360" y="404640"/>
                <a:ext cx="266544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11280" y="4653000"/>
                <a:ext cx="13687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t xml:space="preserve">→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→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t xml:space="preserve">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structuras de Mercad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isten cuatro principales estructuras de mercad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petencia perfec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chas firma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tomadoras de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nopol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sola firma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lla determina el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ligop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y pocas firma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ueden coludirse o 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petencia Monopo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chas firmas muy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65000" y="31752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ompetencia Perfec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4723920"/>
            <a:ext cx="7010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puest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ormación perf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ien perfectamente Homogén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42920" y="1917360"/>
            <a:ext cx="3312720" cy="2448000"/>
            <a:chOff x="1042920" y="1917360"/>
            <a:chExt cx="3312720" cy="2448000"/>
          </a:xfrm>
        </p:grpSpPr>
        <p:sp>
          <p:nvSpPr>
            <p:cNvPr id="126" name=""/>
            <p:cNvSpPr/>
            <p:nvPr/>
          </p:nvSpPr>
          <p:spPr>
            <a:xfrm>
              <a:off x="3882600" y="3906720"/>
              <a:ext cx="47304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42920" y="1917720"/>
              <a:ext cx="47304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62760" y="3906720"/>
              <a:ext cx="31536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00240" y="2988720"/>
              <a:ext cx="47340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15960" y="3906720"/>
              <a:ext cx="268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15960" y="2223360"/>
              <a:ext cx="1104120" cy="918000"/>
            </a:xfrm>
            <a:prstGeom prst="rtTriangl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19720" y="3141720"/>
              <a:ext cx="720" cy="765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1838160" y="2818800"/>
              <a:ext cx="458640" cy="1104120"/>
            </a:xfrm>
            <a:prstGeom prst="rtTriangl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515600" y="3141720"/>
              <a:ext cx="1104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515960" y="2529360"/>
              <a:ext cx="2524320" cy="10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515960" y="1917360"/>
              <a:ext cx="0" cy="19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1515600" y="2223360"/>
              <a:ext cx="1893240" cy="15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219640" y="2930400"/>
                <a:ext cx="2808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005440" y="2131920"/>
            <a:ext cx="208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65000" y="31752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onopoli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4581000"/>
            <a:ext cx="4103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puest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hay sustitos perf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tes barreras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932360" y="3211560"/>
                <a:ext cx="3745080" cy="20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4284720" y="1484280"/>
            <a:ext cx="45352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quilibrio: 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monopolista maximiza su utilidad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68360" y="1484280"/>
            <a:ext cx="4114800" cy="3141360"/>
            <a:chOff x="468360" y="1484280"/>
            <a:chExt cx="4114800" cy="3141360"/>
          </a:xfrm>
        </p:grpSpPr>
        <p:sp>
          <p:nvSpPr>
            <p:cNvPr id="145" name=""/>
            <p:cNvSpPr/>
            <p:nvPr/>
          </p:nvSpPr>
          <p:spPr>
            <a:xfrm>
              <a:off x="835200" y="2398320"/>
              <a:ext cx="429840" cy="3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53800" y="2627280"/>
              <a:ext cx="914400" cy="5713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0120" y="4048200"/>
              <a:ext cx="473040" cy="29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8360" y="1484280"/>
              <a:ext cx="701280" cy="4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29600" y="4048200"/>
              <a:ext cx="468360" cy="32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169640" y="3998160"/>
              <a:ext cx="318456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69640" y="1908360"/>
              <a:ext cx="898560" cy="718560"/>
            </a:xfrm>
            <a:prstGeom prst="rtTriangl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407960" y="2959920"/>
              <a:ext cx="421560" cy="898560"/>
            </a:xfrm>
            <a:prstGeom prst="rtTriangl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169640" y="2283840"/>
              <a:ext cx="2727360" cy="133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153800" y="1484280"/>
              <a:ext cx="15840" cy="26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1169280" y="1908360"/>
              <a:ext cx="2498760" cy="19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32200" y="1861200"/>
              <a:ext cx="1859760" cy="276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062080" y="2614680"/>
              <a:ext cx="0" cy="138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153800" y="2627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65000" y="31752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ligopoli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4560" y="1773000"/>
            <a:ext cx="6337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os comportamientos pos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op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coop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292720" y="3241800"/>
                <a:ext cx="3600360" cy="19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r>
                          <m:t xml:space="preserve">π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76360" y="3284640"/>
            <a:ext cx="453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quilibrio cooperativo: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5445000"/>
            <a:ext cx="67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quilibrio no cooperativ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competencia perfecta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ompetencia Monopolis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upuest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el largo plazo no hay dificultades para entrar o salir de la indus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a firma puede modelarse como un monop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tiene competencia para el grupo de consumidores que los percibe como diferenc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434960"/>
          <a:ext cx="7153200" cy="4730760"/>
        </p:xfrm>
        <a:graphic>
          <a:graphicData uri="http://schemas.openxmlformats.org/drawingml/2006/table">
            <a:tbl>
              <a:tblPr/>
              <a:tblGrid>
                <a:gridCol w="1324080"/>
                <a:gridCol w="1616040"/>
                <a:gridCol w="2027160"/>
                <a:gridCol w="2185920"/>
              </a:tblGrid>
              <a:tr h="1103040">
                <a:tc gridSpan="4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Empresas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 rowSpan="2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empresa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66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s empresas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as empresas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3366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Product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3366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928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66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Diferenciad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Homogéne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3366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864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poli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3366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igopoli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ia Monopolista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ia Perfecta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336666"/>
                      </a:solidFill>
                    </a:lnR>
                    <a:lnT>
                      <a:noFill/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 flipH="1">
            <a:off x="2484000" y="1989000"/>
            <a:ext cx="2158920" cy="935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780000" y="1989000"/>
            <a:ext cx="1079280" cy="100836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1989000"/>
            <a:ext cx="1224000" cy="648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68360" y="3860640"/>
            <a:ext cx="0" cy="1224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3860640"/>
            <a:ext cx="0" cy="1224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6720" y="3141720"/>
            <a:ext cx="0" cy="35856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940360" y="4005360"/>
            <a:ext cx="287280" cy="215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77080" y="4005360"/>
            <a:ext cx="287280" cy="215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0000" y="4941720"/>
            <a:ext cx="0" cy="287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67640" y="4941720"/>
            <a:ext cx="0" cy="287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1:31:26Z</dcterms:created>
  <dc:creator>Loreto Tamblay</dc:creator>
  <dc:description/>
  <dc:language>en-US</dc:language>
  <cp:lastModifiedBy>Loreto Tamblay</cp:lastModifiedBy>
  <dcterms:modified xsi:type="dcterms:W3CDTF">2004-10-16T00:37:03Z</dcterms:modified>
  <cp:revision>8</cp:revision>
  <dc:subject/>
  <dc:title>Auxiliar Nº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